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93D63-C910-40C3-BFF7-9CDFFB384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F684E-5A2C-4102-9B6E-8CCAEA38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43F67-E7FB-4EB7-B8D5-9B07563DC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AC51A-8D94-4F84-924A-251019F81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7896C-AF61-47D9-B902-6955FB4BD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DB843-B978-4A79-97F3-54E318AF2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32805-15FE-4755-9332-1BC7E876B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5DCBE-DF6B-458D-9E3B-3A7511484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5D75D-12F4-43D7-9F0C-A094AF611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98FB6-3899-4CA5-95C9-9EEE79674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D66FB-A6DF-4C45-99E9-8312DD16E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06B79-3F2D-4034-A1C6-E08A42B34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B0371-182C-47B1-AB56-15DBBEAA9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91CD3-0A05-44D8-AD36-284B3D2EE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9992D-F579-4EB5-A39A-9ABEA7EBB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712C6-5DCB-4AE7-91E8-DE004E119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436E9-1453-4D4C-9149-6B24B5EE9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7D55A-14CA-40F7-B15A-E9539288F8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58ED1-3EAF-4577-9141-EB3C00EBC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6900A-5C4D-4692-99DD-B9325C031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C5704-D272-4BA9-B334-7D12396CA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C55CF-E1F8-4A92-BB3C-EBC34C5FA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332CA-F2AA-41D5-B6BA-8E23295E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62C4E-174F-496E-8365-D0EB4AD5B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E54E1-DA76-4559-A128-1109F796A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31FC1-11D0-4E8B-A05D-9C570B3F7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805B3-5D95-49D0-AA25-EE86A8D25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71F72-1100-425E-9CC1-5F89C5093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7812E4-C85F-44CA-8D41-8A14BEB7E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57A29-3AFE-483E-A1B3-766FB1A27F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1937D0-6339-48DC-95CA-A5DE2B9694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D5856-0E4F-4230-93E8-EB5CC6E89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24B7F-C40B-4001-8C4F-A9347A832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4394D-1B60-4216-A7F4-1B96EDCD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C8E5A-5BF3-46AF-987E-D5B72EF93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9B6F9-BE7E-4881-9D53-44EADF317B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36E443-1C6C-44AC-AAED-6E10354E6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64909-FC7E-42FD-A96C-22BEBB7B2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E6800-1243-49CA-A331-145D7A86B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3FEF2-0CEF-4E2D-8C88-A93E4E0B5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3E2EB-82E1-40FF-A198-5FD0C7AD7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D67212-9EF0-4E49-BF5E-B8AB23604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E6DAFA-E3D8-4361-B8F6-2D7941A114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E9710B-4505-4360-A73C-8038E90ACD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A4B3B-8EC6-46F0-AC14-2EEB7C4B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C92810-11A1-4EDE-95EF-A6958EE16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61A07-1BD5-41A0-AB5A-CC2C45FED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3B576-708D-4E0C-BA22-5510399149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1E422-9CCA-4720-A3D9-5C97E67F9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D588E4-111C-45E2-82C3-9B4B60D47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CD1E9-02BF-4BC8-85F7-D363E1D3B2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C3037-CA90-41C3-BF53-5A92FE80B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1B083-FAA2-449A-8D58-F10FCE151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E1FBB-9774-4A19-89E1-5037C2117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7D8A1-8B38-4851-872B-FA41F9149A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CD2F5-9433-4070-A51B-B96F6A576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4E8B3C-D45E-43FE-B010-98D5D9A913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86F769-03AD-4E50-85AA-F278B66B87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DF962E-3F93-49FA-A114-A01F2427C7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3971D-C712-44D8-A229-BC89DFA85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AF4FA-CCB9-436F-9731-909215AEE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22F24-3CD8-4BE2-92EF-2F8E7CD81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900E5-D259-4395-AB18-82013F645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0249B-3532-4F53-95E5-DA8AC15A5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9336C-C12E-42FE-B33C-15209E4FA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BEC27-EDEB-4EA9-B527-756B84A7F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ACE4-05F1-499B-AB41-8956E2BC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08E1D2-9C6B-433B-86CA-18B488421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4D870C-9686-4031-848E-099BC2EC9E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35950C-F4D9-4B1A-BFB4-996D300116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CB23-16C3-4E87-8E9F-016E64F1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E49CA-822D-45AB-B65F-4D52ACA6E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60A4-24A4-4B0C-85DD-92E476053207}"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10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12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683E-F942-492D-8536-CD959A07DF0D}"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10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12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31C4-B40B-4F57-AB44-E23FE1EC52DE}" type="slidenum">
              <a:rPr b="0" lang="es-A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04D3-E933-4977-8212-6F0970F8186F}"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DA5F-D168-42AB-9F67-165B5334C416}"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C621-F819-4624-812C-99B4C1314881}" type="slidenum">
              <a:rPr b="0" lang="es-A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1974960" y="554040"/>
            <a:ext cx="6834240" cy="2444760"/>
          </a:xfrm>
          <a:prstGeom prst="rect">
            <a:avLst/>
          </a:prstGeom>
          <a:ln w="0">
            <a:noFill/>
          </a:ln>
        </p:spPr>
      </p:pic>
      <p:pic>
        <p:nvPicPr>
          <p:cNvPr id="255" name="2 Imagen" descr="regiones-de-francia.gif"/>
          <p:cNvPicPr/>
          <p:nvPr/>
        </p:nvPicPr>
        <p:blipFill>
          <a:blip r:embed="rId2"/>
          <a:stretch/>
        </p:blipFill>
        <p:spPr>
          <a:xfrm>
            <a:off x="539640" y="1278000"/>
            <a:ext cx="5238720" cy="474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Franklin Gothic Book"/>
              </a:rPr>
              <a:t>MARSEILLE</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aujourd’hui l’une des villes les plus cosmopolites de France, qui attire chaque année une foule de touristes du monde entier. </a:t>
            </a:r>
            <a:endParaRPr b="0" lang="en-US" sz="1300" spc="-1" strike="noStrike">
              <a:solidFill>
                <a:srgbClr val="ffffff"/>
              </a:solidFill>
              <a:latin typeface="Arial"/>
            </a:endParaRPr>
          </a:p>
          <a:p>
            <a:pPr marL="419040" indent="-382680">
              <a:lnSpc>
                <a:spcPct val="15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Se positionne comme la ville française et méditerranéenne de référence en matière d’organisations de congrès et séminaire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a:t>
            </a:r>
            <a:r>
              <a:rPr b="1" lang="fr-FR" sz="1300" spc="-1" strike="noStrike">
                <a:solidFill>
                  <a:srgbClr val="ffffff"/>
                </a:solidFill>
                <a:latin typeface="Arial"/>
              </a:rPr>
              <a:t> </a:t>
            </a:r>
            <a:r>
              <a:rPr b="0" lang="fr-FR" sz="1300" spc="-1" strike="noStrike">
                <a:solidFill>
                  <a:srgbClr val="ffffff"/>
                </a:solidFill>
                <a:latin typeface="Arial"/>
              </a:rPr>
              <a:t>est située au sud-est de la France, dans la région de Provence-Alpes-Côte d’ Azur.</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 endroit est divisée en 16 arrondissements municipaux, eux-mêmes divisée en quartie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compte avec 240 km² de superficie, et avec une population de 859.543 habitants enviro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ette ville est bordée par la mer Méditerranée à l’ouest et enserrée par des massifs. </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lle a été fondée vers 600 avant J.-C. par des marins grecs originaires de Phocée en Asie Mineur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est le premier port français et méditerranéen.</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Marseille se trouve a la région Côte d‘Azur; la ville est à proximité de très importantes villes comme Monaco, Nice, Cannes, où se célèbre le Festival De Cannes, et aussi de la ville de Toulon. Vous pouvez prendre le train et en peu de temps être à Lyon ou Paris.</a:t>
            </a:r>
            <a:endParaRPr b="0" lang="en-US" sz="1300" spc="-1" strike="noStrike">
              <a:solidFill>
                <a:srgbClr val="ffffff"/>
              </a:solidFill>
              <a:latin typeface="Arial"/>
            </a:endParaRPr>
          </a:p>
          <a:p>
            <a:pPr marL="419040" indent="-382680">
              <a:lnSpc>
                <a:spcPct val="13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19040" indent="-382680">
              <a:lnSpc>
                <a:spcPct val="80000"/>
              </a:lnSpc>
              <a:spcBef>
                <a:spcPts val="32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5292360" y="1773360"/>
            <a:ext cx="3311640" cy="4248000"/>
          </a:xfrm>
          <a:prstGeom prst="rect">
            <a:avLst/>
          </a:prstGeom>
          <a:noFill/>
          <a:ln w="0">
            <a:noFill/>
          </a:ln>
        </p:spPr>
        <p:txBody>
          <a:bodyPr lIns="45720" rIns="45720" tIns="46800" bIns="4680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LE CLIMAT</a:t>
            </a:r>
            <a:endParaRPr b="0" lang="en-US" sz="19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320 jours de soleil par an.</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s mois les plus chauds sont Juin, Juillet et  Août, où les températures maximales enregistrées sont d’entre le 26 et 30º C.</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Il y a en moyenne 525 mm de précipitations par an. </a:t>
            </a:r>
            <a:endParaRPr b="0" lang="en-US" sz="1700" spc="-1" strike="noStrike">
              <a:solidFill>
                <a:srgbClr val="ffffff"/>
              </a:solidFill>
              <a:latin typeface="Arial"/>
            </a:endParaRPr>
          </a:p>
          <a:p>
            <a:pPr>
              <a:lnSpc>
                <a:spcPct val="140000"/>
              </a:lnSpc>
              <a:spcBef>
                <a:spcPts val="425"/>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 température moyenne à Marseille est de 15,9 °C.</a:t>
            </a:r>
            <a:endParaRPr b="0" lang="en-US" sz="1700" spc="-1" strike="noStrike">
              <a:solidFill>
                <a:srgbClr val="ffffff"/>
              </a:solidFill>
              <a:latin typeface="Arial"/>
            </a:endParaRPr>
          </a:p>
        </p:txBody>
      </p:sp>
      <p:pic>
        <p:nvPicPr>
          <p:cNvPr id="259" name="Picture 2" descr="Fichier:Marseille Old Port.jpg"/>
          <p:cNvPicPr/>
          <p:nvPr/>
        </p:nvPicPr>
        <p:blipFill>
          <a:blip r:embed="rId1"/>
          <a:stretch/>
        </p:blipFill>
        <p:spPr>
          <a:xfrm>
            <a:off x="804960" y="1822320"/>
            <a:ext cx="4151160" cy="5389560"/>
          </a:xfrm>
          <a:prstGeom prst="rect">
            <a:avLst/>
          </a:prstGeom>
          <a:ln w="0">
            <a:noFill/>
          </a:ln>
        </p:spPr>
      </p:pic>
      <p:sp>
        <p:nvSpPr>
          <p:cNvPr id="260" name="1 Título"/>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600" spc="-1" strike="noStrike">
                <a:solidFill>
                  <a:srgbClr val="ffffff"/>
                </a:solidFill>
                <a:latin typeface="Franklin Gothic Book"/>
              </a:rPr>
              <a:t>MARSEILLE</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268280"/>
            <a:ext cx="4032360" cy="720720"/>
          </a:xfrm>
          <a:prstGeom prst="rect">
            <a:avLst/>
          </a:prstGeom>
          <a:noFill/>
          <a:ln w="0">
            <a:noFill/>
          </a:ln>
        </p:spPr>
        <p:txBody>
          <a:bodyPr lIns="45720" rIns="4572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6ea0b0"/>
                </a:solidFill>
                <a:latin typeface="Franklin Gothic Book"/>
              </a:rPr>
              <a:t>Se </a:t>
            </a:r>
            <a:r>
              <a:rPr b="1" lang="fr-FR" sz="2200" spc="-1" strike="noStrike">
                <a:solidFill>
                  <a:srgbClr val="6ea0b0"/>
                </a:solidFill>
                <a:latin typeface="Franklin Gothic Book"/>
              </a:rPr>
              <a:t>déplacer à Marseille</a:t>
            </a:r>
            <a:endParaRPr b="0" lang="en-US" sz="2200" spc="-1" strike="noStrike">
              <a:solidFill>
                <a:srgbClr val="ffffff"/>
              </a:solidFill>
              <a:latin typeface="Franklin Gothic Book"/>
            </a:endParaRPr>
          </a:p>
        </p:txBody>
      </p:sp>
      <p:sp>
        <p:nvSpPr>
          <p:cNvPr id="262" name="PlaceHolder 2"/>
          <p:cNvSpPr>
            <a:spLocks noGrp="1"/>
          </p:cNvSpPr>
          <p:nvPr>
            <p:ph/>
          </p:nvPr>
        </p:nvSpPr>
        <p:spPr>
          <a:xfrm>
            <a:off x="539640" y="404640"/>
            <a:ext cx="8136000" cy="936720"/>
          </a:xfrm>
          <a:prstGeom prst="rect">
            <a:avLst/>
          </a:prstGeom>
          <a:noFill/>
          <a:ln w="0">
            <a:noFill/>
          </a:ln>
        </p:spPr>
        <p:txBody>
          <a:bodyPr lIns="45720" rIns="45720" tIns="46800" bIns="46800" anchor="t">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3" name=""/>
          <p:cNvSpPr txBox="1"/>
          <p:nvPr/>
        </p:nvSpPr>
        <p:spPr>
          <a:xfrm>
            <a:off x="250560" y="1988640"/>
            <a:ext cx="4105080" cy="446436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TM (Régie des Transports de Marseille) exploite un réseau qui compte avec 2 lignes de tramway, 2 lignes de métro et 79 lignes de bu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4" name="6 Marcador de posición de imagen" descr="http://www.marseille.fr/sitevdm/document?id=730&amp;id_attribute=66"/>
          <p:cNvPicPr/>
          <p:nvPr/>
        </p:nvPicPr>
        <p:blipFill>
          <a:blip r:embed="rId1"/>
          <a:stretch/>
        </p:blipFill>
        <p:spPr>
          <a:xfrm>
            <a:off x="5340240" y="1463760"/>
            <a:ext cx="3365640" cy="3589200"/>
          </a:xfrm>
          <a:prstGeom prst="rect">
            <a:avLst/>
          </a:prstGeom>
          <a:ln w="0">
            <a:noFill/>
          </a:ln>
        </p:spPr>
      </p:pic>
      <p:pic>
        <p:nvPicPr>
          <p:cNvPr id="265" name="7 Imagen" descr="mairie"/>
          <p:cNvPicPr/>
          <p:nvPr/>
        </p:nvPicPr>
        <p:blipFill>
          <a:blip r:embed="rId2"/>
          <a:stretch/>
        </p:blipFill>
        <p:spPr>
          <a:xfrm>
            <a:off x="4284720" y="4797360"/>
            <a:ext cx="309564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80" y="1197000"/>
            <a:ext cx="3200400" cy="37152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67"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68" name=""/>
          <p:cNvSpPr txBox="1"/>
          <p:nvPr/>
        </p:nvSpPr>
        <p:spPr>
          <a:xfrm>
            <a:off x="457200" y="1699920"/>
            <a:ext cx="8075520" cy="5157720"/>
          </a:xfrm>
          <a:prstGeom prst="rect">
            <a:avLst/>
          </a:prstGeom>
          <a:noFill/>
          <a:ln w="0">
            <a:noFill/>
          </a:ln>
        </p:spPr>
        <p:txBody>
          <a:bodyPr lIns="90000" rIns="90000" tIns="46800" bIns="46800" anchor="t">
            <a:normAutofit/>
          </a:bodyPr>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et endroit a des plages sur la mer Méditerranée le plus important sont Belle Plage, L‘Odine et Le Sporting, mais il y a beaucoup de plages pour tous le types des touristes.</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ointe Rouge est un quartier du 8</a:t>
            </a:r>
            <a:r>
              <a:rPr b="0" lang="fr-FR" sz="1400" spc="-1" strike="noStrike" baseline="30000">
                <a:solidFill>
                  <a:srgbClr val="ffffff"/>
                </a:solidFill>
                <a:latin typeface="Arial"/>
              </a:rPr>
              <a:t>e</a:t>
            </a:r>
            <a:r>
              <a:rPr b="0" lang="fr-FR" sz="1400" spc="-1" strike="noStrike">
                <a:solidFill>
                  <a:srgbClr val="ffffff"/>
                </a:solidFill>
                <a:latin typeface="Arial"/>
              </a:rPr>
              <a:t> arrondissement de Marseille (Canton de Marseille-La Pointe-Rouge), situé au Sud de la ville entre Vielle-Chapelle et Montredon. Le port de la Pointe Rouge est le plus grand port de plaisance de Marseille. Il offre 1800 places à quai et de nombreuses activités nautiques: voile, plongée, aviron de mer, kayaks ou pirogue polynésienne.</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 place Castellane est une place située non loin du centre de Marseille (6</a:t>
            </a:r>
            <a:r>
              <a:rPr b="0" lang="fr-FR" sz="1400" spc="-1" strike="noStrike" baseline="30000">
                <a:solidFill>
                  <a:srgbClr val="ffffff"/>
                </a:solidFill>
                <a:latin typeface="Arial"/>
              </a:rPr>
              <a:t>e</a:t>
            </a:r>
            <a:r>
              <a:rPr b="0" lang="fr-FR" sz="1400" spc="-1" strike="noStrike">
                <a:solidFill>
                  <a:srgbClr val="ffffff"/>
                </a:solidFill>
                <a:latin typeface="Arial"/>
              </a:rPr>
              <a:t> arrondissement). On doit son nom au Marquis de Castellane-Majastre qui offrit le terrain et le financement des travaux. Cet endroit disposais, jusqu’au 1911, d’un obélisque que a été construit à l’occasion de la naissance  du fils de l'empereur Napoléon 1er : le </a:t>
            </a:r>
            <a:r>
              <a:rPr b="0" i="1" lang="fr-FR" sz="1400" spc="-1" strike="noStrike">
                <a:solidFill>
                  <a:srgbClr val="ffffff"/>
                </a:solidFill>
                <a:latin typeface="Arial"/>
              </a:rPr>
              <a:t>Roi de Rome</a:t>
            </a:r>
            <a:r>
              <a:rPr b="0" lang="fr-FR" sz="1400" spc="-1" strike="noStrike">
                <a:solidFill>
                  <a:srgbClr val="ffffff"/>
                </a:solidFill>
                <a:latin typeface="Arial"/>
              </a:rPr>
              <a:t>.</a:t>
            </a:r>
            <a:endParaRPr b="0" lang="en-US" sz="1400" spc="-1" strike="noStrike">
              <a:solidFill>
                <a:srgbClr val="ffffff"/>
              </a:solidFill>
              <a:latin typeface="Arial"/>
            </a:endParaRPr>
          </a:p>
          <a:p>
            <a:pPr marL="419040" indent="-382680">
              <a:lnSpc>
                <a:spcPct val="15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Notre-Dame de la Garde, également appelée localement « la Bonne Mère » est une des basiliques mineures de l'Église catholique. Elle est située sur un piton calcaire de 149 mètres d'altitude au sud du Vieux-Port de Marseille, surélevé de 13 mètres grâce aux murs et soubassements d'un ancien fort.</a:t>
            </a:r>
            <a:endParaRPr b="0" lang="en-US" sz="1400" spc="-1" strike="noStrike">
              <a:solidFill>
                <a:srgbClr val="ffffff"/>
              </a:solidFill>
              <a:latin typeface="Arial"/>
            </a:endParaRPr>
          </a:p>
          <a:p>
            <a:pPr marL="419040" indent="-3826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80000"/>
              </a:lnSpc>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060640"/>
            <a:ext cx="3200400" cy="73008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Des lieux à visiter à Marseille</a:t>
            </a:r>
            <a:endParaRPr b="0" lang="en-US" sz="1800" spc="-1" strike="noStrike">
              <a:solidFill>
                <a:srgbClr val="ffffff"/>
              </a:solidFill>
              <a:latin typeface="Franklin Gothic Book"/>
            </a:endParaRPr>
          </a:p>
        </p:txBody>
      </p:sp>
      <p:sp>
        <p:nvSpPr>
          <p:cNvPr id="270"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71" name="Picture 2" descr="Basilique Notre-Dame-de-la-Garde"/>
          <p:cNvPicPr/>
          <p:nvPr/>
        </p:nvPicPr>
        <p:blipFill>
          <a:blip r:embed="rId1"/>
          <a:stretch/>
        </p:blipFill>
        <p:spPr>
          <a:xfrm>
            <a:off x="5262480" y="4265640"/>
            <a:ext cx="3881520" cy="2592360"/>
          </a:xfrm>
          <a:prstGeom prst="rect">
            <a:avLst/>
          </a:prstGeom>
          <a:ln w="0">
            <a:noFill/>
          </a:ln>
        </p:spPr>
      </p:pic>
      <p:pic>
        <p:nvPicPr>
          <p:cNvPr id="272" name="Picture 4" descr="Place Castellane"/>
          <p:cNvPicPr/>
          <p:nvPr/>
        </p:nvPicPr>
        <p:blipFill>
          <a:blip r:embed="rId2"/>
          <a:stretch/>
        </p:blipFill>
        <p:spPr>
          <a:xfrm>
            <a:off x="250920" y="2637000"/>
            <a:ext cx="2666880" cy="3952800"/>
          </a:xfrm>
          <a:prstGeom prst="rect">
            <a:avLst/>
          </a:prstGeom>
          <a:ln w="0">
            <a:noFill/>
          </a:ln>
        </p:spPr>
      </p:pic>
      <p:sp>
        <p:nvSpPr>
          <p:cNvPr id="2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5" name="Picture 10" descr="http://www.web-provence.com/photos/pointe-rouge.jpg"/>
          <p:cNvPicPr/>
          <p:nvPr/>
        </p:nvPicPr>
        <p:blipFill>
          <a:blip r:embed="rId3"/>
          <a:stretch/>
        </p:blipFill>
        <p:spPr>
          <a:xfrm>
            <a:off x="3059280" y="1268280"/>
            <a:ext cx="4321080" cy="32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185480"/>
            <a:ext cx="8218440" cy="10191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ea0b0"/>
                </a:solidFill>
                <a:latin typeface="Franklin Gothic Book"/>
              </a:rPr>
              <a:t>Marseille est un lieu très touristique. Elle est visitée  par beaucoup des gens pendant tout l’année. Pour cette raison il offre une grande variété de logement. Marseille  a hôtels a partir de cinq étoiles jusqu’a des petits hôtels.</a:t>
            </a:r>
            <a:br>
              <a:rPr sz="1600"/>
            </a:br>
            <a:r>
              <a:rPr b="1" lang="fr-FR" sz="1600" spc="-1" strike="noStrike">
                <a:solidFill>
                  <a:srgbClr val="6ea0b0"/>
                </a:solidFill>
                <a:latin typeface="Franklin Gothic Book"/>
              </a:rPr>
              <a:t>Á continuation  une liste avec les hôtels cinq étoiles du Marseille :</a:t>
            </a:r>
            <a:br>
              <a:rPr sz="1600"/>
            </a:br>
            <a:endParaRPr b="0" lang="en-US" sz="1600" spc="-1" strike="noStrike">
              <a:solidFill>
                <a:srgbClr val="ffffff"/>
              </a:solidFill>
              <a:latin typeface="Franklin Gothic Book"/>
            </a:endParaRPr>
          </a:p>
        </p:txBody>
      </p:sp>
      <p:sp>
        <p:nvSpPr>
          <p:cNvPr id="277" name="PlaceHolder 2"/>
          <p:cNvSpPr>
            <a:spLocks noGrp="1"/>
          </p:cNvSpPr>
          <p:nvPr>
            <p:ph/>
          </p:nvPr>
        </p:nvSpPr>
        <p:spPr>
          <a:xfrm>
            <a:off x="457200" y="214200"/>
            <a:ext cx="829152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78" name=""/>
          <p:cNvSpPr txBox="1"/>
          <p:nvPr/>
        </p:nvSpPr>
        <p:spPr>
          <a:xfrm>
            <a:off x="457200" y="2282400"/>
            <a:ext cx="8362800" cy="3954600"/>
          </a:xfrm>
          <a:prstGeom prst="rect">
            <a:avLst/>
          </a:prstGeom>
          <a:noFill/>
          <a:ln w="0">
            <a:noFill/>
          </a:ln>
        </p:spPr>
        <p:txBody>
          <a:bodyPr lIns="90000" rIns="90000" tIns="46800" bIns="46800"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Sofitel Marseille Vieux Port - 19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sofitel.com/es/hotel-0542-sofitel-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Grand Hôtel Beauvau Vieux Port  - 138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1293-grand-hotel-beauvau-marseille-vieux-port/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Résidence du Vieux Port - 17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hrvpm.com/</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Pullman Palm Beach -  155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accorhotels.com/fr/hotel-3485-pullman-marseille-palm-beach/index.shtml</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ôtel Radisson Blu Marseille Vieux Port -  140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radissonblu.fr/hotel-marseille</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COH Design &amp; Cosy Home - 109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ttp://www.meuble-appartement-location.com/</a:t>
            </a:r>
            <a:endParaRPr b="0" lang="en-US" sz="16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185480"/>
            <a:ext cx="8218440" cy="73044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ea0b0"/>
                </a:solidFill>
                <a:latin typeface="Franklin Gothic Book"/>
              </a:rPr>
              <a:t>Marseille offre cuisine traditionnelle et internationale pour la variété de touristes que visite la ville. Les plats typiques sont faits avec produits comme le poison et la viande. </a:t>
            </a:r>
            <a:br>
              <a:rPr sz="1600"/>
            </a:br>
            <a:endParaRPr b="0" lang="en-US" sz="1600" spc="-1" strike="noStrike">
              <a:solidFill>
                <a:srgbClr val="ffffff"/>
              </a:solidFill>
              <a:latin typeface="Franklin Gothic Book"/>
            </a:endParaRPr>
          </a:p>
        </p:txBody>
      </p:sp>
      <p:sp>
        <p:nvSpPr>
          <p:cNvPr id="280" name="PlaceHolder 2"/>
          <p:cNvSpPr>
            <a:spLocks noGrp="1"/>
          </p:cNvSpPr>
          <p:nvPr>
            <p:ph/>
          </p:nvPr>
        </p:nvSpPr>
        <p:spPr>
          <a:xfrm>
            <a:off x="456840" y="214200"/>
            <a:ext cx="821844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sp>
        <p:nvSpPr>
          <p:cNvPr id="281" name=""/>
          <p:cNvSpPr txBox="1"/>
          <p:nvPr/>
        </p:nvSpPr>
        <p:spPr>
          <a:xfrm>
            <a:off x="456840" y="1980720"/>
            <a:ext cx="8218440" cy="4472280"/>
          </a:xfrm>
          <a:prstGeom prst="rect">
            <a:avLst/>
          </a:prstGeom>
          <a:noFill/>
          <a:ln w="0">
            <a:noFill/>
          </a:ln>
        </p:spPr>
        <p:txBody>
          <a:bodyPr lIns="90000" rIns="90000" tIns="46800" bIns="46800" anchor="t">
            <a:normAutofit/>
          </a:bodyPr>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staurant  Miramar</a:t>
            </a:r>
            <a:endParaRPr b="0" lang="en-US" sz="2200" spc="-1" strike="noStrike">
              <a:solidFill>
                <a:srgbClr val="ffffff"/>
              </a:solidFill>
              <a:latin typeface="Arial"/>
            </a:endParaRPr>
          </a:p>
          <a:p>
            <a:pPr marL="419040" indent="-382680">
              <a:lnSpc>
                <a:spcPct val="130000"/>
              </a:lnSpc>
              <a:spcBef>
                <a:spcPts val="42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ttp://www.bouillabaisse.com/cadre.php</a:t>
            </a:r>
            <a:endParaRPr b="0" lang="en-US" sz="17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nfon (Restaurant de spécialités de poissons et bouillabaisse)</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chez-fonfon.co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Table au Sud </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http://www.unetableausud.com/fr_cartes.htm</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z Jeannot</a:t>
            </a:r>
            <a:endParaRPr b="0" lang="en-US" sz="2200" spc="-1" strike="noStrike">
              <a:solidFill>
                <a:srgbClr val="ffffff"/>
              </a:solidFill>
              <a:latin typeface="Arial"/>
            </a:endParaRPr>
          </a:p>
          <a:p>
            <a:pPr marL="419040" indent="-382680">
              <a:lnSpc>
                <a:spcPct val="13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http://pizzeriachezjeannot.com/htfr/0001.htm</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617840"/>
            <a:ext cx="8218440" cy="1379520"/>
          </a:xfrm>
          <a:prstGeom prst="rect">
            <a:avLst/>
          </a:prstGeom>
          <a:noFill/>
          <a:ln w="0">
            <a:noFill/>
          </a:ln>
        </p:spPr>
        <p:txBody>
          <a:bodyPr lIns="45720" rIns="4572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ea0b0"/>
                </a:solidFill>
                <a:latin typeface="Franklin Gothic Book"/>
              </a:rPr>
              <a:t>LA </a:t>
            </a:r>
            <a:r>
              <a:rPr b="1" lang="fr-FR" sz="1800" spc="-1" strike="noStrike">
                <a:solidFill>
                  <a:srgbClr val="6ea0b0"/>
                </a:solidFill>
                <a:latin typeface="Franklin Gothic Book"/>
              </a:rPr>
              <a:t>BOUILLABAISSE:</a:t>
            </a:r>
            <a:br>
              <a:rPr sz="1800"/>
            </a:br>
            <a:r>
              <a:rPr b="1" lang="fr-FR" sz="1600" spc="-1" strike="noStrike">
                <a:solidFill>
                  <a:srgbClr val="6ea0b0"/>
                </a:solidFill>
                <a:latin typeface="Franklin Gothic Book"/>
              </a:rPr>
              <a:t>La bouillabaisse est une soupe de fruits de mer fait avec différentes sortes de poissons et des mollusques cuits et les légumes, parfumé avec une variété d' herbes et épices comme l'ail , zeste d'orange , le basilic , le laurier , le fenouil et le safran . Il ya au moins trois types de poissons dans une bouillabaisse traditionnelle</a:t>
            </a:r>
            <a:br>
              <a:rPr sz="1600"/>
            </a:br>
            <a:br>
              <a:rPr sz="1800"/>
            </a:br>
            <a:br>
              <a:rPr sz="1800"/>
            </a:br>
            <a:endParaRPr b="0" lang="en-US" sz="1600" spc="-1" strike="noStrike">
              <a:solidFill>
                <a:srgbClr val="ffffff"/>
              </a:solidFill>
              <a:latin typeface="Franklin Gothic Book"/>
            </a:endParaRPr>
          </a:p>
        </p:txBody>
      </p:sp>
      <p:sp>
        <p:nvSpPr>
          <p:cNvPr id="283" name="PlaceHolder 2"/>
          <p:cNvSpPr>
            <a:spLocks noGrp="1"/>
          </p:cNvSpPr>
          <p:nvPr>
            <p:ph/>
          </p:nvPr>
        </p:nvSpPr>
        <p:spPr>
          <a:xfrm>
            <a:off x="456840" y="214200"/>
            <a:ext cx="8147160" cy="914400"/>
          </a:xfrm>
          <a:prstGeom prst="rect">
            <a:avLst/>
          </a:prstGeom>
          <a:noFill/>
          <a:ln w="0">
            <a:noFill/>
          </a:ln>
        </p:spPr>
        <p:txBody>
          <a:bodyPr lIns="45720" rIns="45720" tIns="0" bIns="0" anchor="b">
            <a:norm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600" spc="-1" strike="noStrike">
                <a:solidFill>
                  <a:srgbClr val="ffffff"/>
                </a:solidFill>
                <a:latin typeface="Arial"/>
              </a:rPr>
              <a:t>MARSEILLE</a:t>
            </a:r>
            <a:endParaRPr b="0" lang="en-US" sz="4600" spc="-1" strike="noStrike">
              <a:solidFill>
                <a:srgbClr val="ffffff"/>
              </a:solidFill>
              <a:latin typeface="Arial"/>
            </a:endParaRPr>
          </a:p>
        </p:txBody>
      </p:sp>
      <p:pic>
        <p:nvPicPr>
          <p:cNvPr id="284" name="Picture 2" descr="250px-Brazilian_bouillabaisse"/>
          <p:cNvPicPr/>
          <p:nvPr/>
        </p:nvPicPr>
        <p:blipFill>
          <a:blip r:embed="rId1"/>
          <a:stretch/>
        </p:blipFill>
        <p:spPr>
          <a:xfrm>
            <a:off x="2340000" y="3429000"/>
            <a:ext cx="4392720" cy="29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42:42Z</dcterms:created>
  <dc:creator>Jesica Francovig</dc:creator>
  <dc:description/>
  <dc:language>en-US</dc:language>
  <cp:lastModifiedBy>Jesica Francovig</cp:lastModifiedBy>
  <dcterms:modified xsi:type="dcterms:W3CDTF">2011-04-07T19:29:31Z</dcterms:modified>
  <cp:revision>18</cp:revision>
  <dc:subject/>
  <dc:title>MARSEILLE</dc:title>
</cp:coreProperties>
</file>